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2ED-CCA1-4C49-ACFD-BE1F39FE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A93-BF07-498F-8C30-70D22AC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82A-A763-4954-9D59-27AA70BD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0DB-DC66-4AC4-8096-AD596588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96D-BDC8-434B-911A-E7E9628B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DDB-6BB4-4759-9EB2-A0256F3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96A-2A2E-4BEC-BBE3-4A17B411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10D-E941-446E-A500-BD18412D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80A-2B93-4772-8CD4-CEADF854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2CB-6BCE-4D51-92E3-C515FC06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7F1-800F-4E3D-9F3E-5C3F3D6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9DF-E81B-494C-AF6F-B202067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48B0-5C93-430A-9D48-F89CB95387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инии 30 ЕГЭ 20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ый конус с углом при вершине 2а вращается с угловой скоростью со вокруг вертикальной оси, совпадающей с его осью симметрии. Вершина конуса обращена вверх. На внешней поверхности конуса находится небольшая шайба, коэффициент трения которой о поверхность конуса равен ц. При каком максимальном расстоя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вершины шайба будет неподвижна относительно конуса? Сделайте схематический рисунок с указанием сил, действующих на шай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242424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родный тонкий стержень масс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г одним концом шарнирно прикреплён к потолку, а другим концом опирается на массивную горизонтальную доску, образуя с ней угол а = 30°. Под действием горизонтальной сил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 движется поступательно влево с постоянной скоростью (см. рис.). Стержень при этом неподвижен. Найди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эффициент трения стержня по доске ц = 0,2. Трением доски по опоре и трением в шарнире пренеб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0" y="380880"/>
            <a:ext cx="662940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838080" y="631800"/>
            <a:ext cx="723924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04920" y="923760"/>
            <a:ext cx="8839080" cy="48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280" y="1411200"/>
            <a:ext cx="86108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89154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7631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28600" y="1787400"/>
            <a:ext cx="8915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31T12:00:29Z</dcterms:created>
  <dc:creator>Sharypovs</dc:creator>
  <dc:description/>
  <dc:language>en-US</dc:language>
  <cp:lastModifiedBy>Пользователь</cp:lastModifiedBy>
  <dcterms:modified xsi:type="dcterms:W3CDTF">2021-11-09T20:59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